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321-7E69-4E05-A11D-D2D7B089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F0B-CF12-4849-B844-A0B3C350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942-9F92-464F-92EE-E3AD19EF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097-6CCB-404E-A527-8B5B5C6E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02F-B39D-4E07-B38E-10F46F4D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B4B-0382-42E0-B074-AC97AB7F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ADE-D554-4690-BEF6-CD1E3EBA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318-5FC3-4650-8A60-4A9A82B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EA6-C645-4F48-9FE1-789F5AD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E7D-E1F6-4957-9F85-9E48EE49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08C-0074-434D-BB5C-3ECB7FBC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438-91B3-4CD9-A0CA-2FA7F5FC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BC5B-987C-4958-9041-0A29A5BCD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Software Development Proj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ng Traveling Cylinder Map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der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esian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visualiz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Show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1143000"/>
          <a:ext cx="3641760" cy="53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364176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veling Cyli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to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Visualize Clos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splay Uncertai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67080" y="1676520"/>
          <a:ext cx="4411800" cy="44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76520"/>
                    <a:ext cx="441180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nary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s Close Approach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ses ou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s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to a dat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s user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un-Tim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in Basic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s file from other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s circles, well paths and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s several man-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human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s more professional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43:42Z</dcterms:created>
  <dc:creator>SLB</dc:creator>
  <dc:description/>
  <dc:language>en-US</dc:language>
  <cp:lastModifiedBy>SLB</cp:lastModifiedBy>
  <dcterms:modified xsi:type="dcterms:W3CDTF">2002-11-18T23:43:54Z</dcterms:modified>
  <cp:revision>1</cp:revision>
  <dc:subject/>
  <dc:title>Applied Software Development Project </dc:title>
</cp:coreProperties>
</file>